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A6A90-00CB-4424-BB0A-3F1C1A508C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BA595-83F1-41FD-8450-E4FB69A358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99B9A-9F8A-4E04-84FA-6002FD2A3A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E0D3A-EB59-4A01-8B0A-13E291692A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40439-C560-40F6-A6B4-DF473B4DB8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79903-68A1-4A43-86EA-78464C992C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F1C79-CCAE-4FF9-A83B-BF38A7CB23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B27FF-A018-447A-A5A6-E224B33B43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940DB-670C-496B-BC2D-91CF880ECD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06E84-8CDD-4BA3-ADC8-1CE578EDCFE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C8721-BB4A-45EF-B9F4-8E31AB8DEF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577F-5590-4505-8587-0EFBE613B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681C-B42A-4CAB-9688-D346EE3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4F54-5D49-416A-ABB3-40556DA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68D2-866A-414D-A498-2C2D534D46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C18B-FFAA-4825-8C76-C39C4FEF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4A8E-9B5B-49CA-AF42-C5587C44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5770-DC15-4936-ABA3-E491E679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3752-6C88-4D81-BE59-1DB9B604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B994-6F18-416D-9ED8-B29737B4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56FF-5309-4A56-84BC-4DACE0BF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A5AD-0188-4D03-B38F-69A86518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09C3-B301-4616-AC1E-F35B4D15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2C4DD6-349F-4E1D-BDB9-C4580E12867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1440000" y="306072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900000" y="1268280"/>
            <a:ext cx="73454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contin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is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relieve de estas zonas destac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cordill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llan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depre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zonas emerg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6300720" y="2755800"/>
            <a:ext cx="107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rdill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708360" y="3429000"/>
            <a:ext cx="107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Llan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348000" y="4221000"/>
            <a:ext cx="107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pre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643280" y="6093000"/>
            <a:ext cx="2808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ulsa sobre cada forma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95280" y="126828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conjuntos formados por montañas, que se disponen 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 largo de una gran exte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cordill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12 Imagen" descr="cordillera_bd.jpg"/>
          <p:cNvPicPr/>
          <p:nvPr/>
        </p:nvPicPr>
        <p:blipFill>
          <a:blip r:embed="rId2"/>
          <a:stretch/>
        </p:blipFill>
        <p:spPr>
          <a:xfrm>
            <a:off x="2700360" y="1989000"/>
            <a:ext cx="6418080" cy="4321440"/>
          </a:xfrm>
          <a:prstGeom prst="rect">
            <a:avLst/>
          </a:prstGeom>
          <a:ln w="0">
            <a:noFill/>
          </a:ln>
        </p:spPr>
      </p:pic>
      <p:sp>
        <p:nvSpPr>
          <p:cNvPr id="84" name="13 Rectángulo"/>
          <p:cNvSpPr/>
          <p:nvPr/>
        </p:nvSpPr>
        <p:spPr>
          <a:xfrm>
            <a:off x="395280" y="2060640"/>
            <a:ext cx="237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ejemplos de cordilleras son  los Pirineos y los Alpes en Europa, el Himalaya en Asia, los And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Sudaméric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las Montañas Rocosas en Norteamé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3924360" y="6381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4361040" y="64501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2200" y="1197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extensas regiones llanas, a veces elevadas, que forman la mayor parte de los contin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llan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12 Imagen" descr="llanura_bd.jpg"/>
          <p:cNvPicPr/>
          <p:nvPr/>
        </p:nvPicPr>
        <p:blipFill>
          <a:blip r:embed="rId2"/>
          <a:stretch/>
        </p:blipFill>
        <p:spPr>
          <a:xfrm>
            <a:off x="3059280" y="1989000"/>
            <a:ext cx="6013440" cy="4007160"/>
          </a:xfrm>
          <a:prstGeom prst="rect">
            <a:avLst/>
          </a:prstGeom>
          <a:ln w="0">
            <a:noFill/>
          </a:ln>
        </p:spPr>
      </p:pic>
      <p:sp>
        <p:nvSpPr>
          <p:cNvPr id="95" name="13 Rectángulo"/>
          <p:cNvSpPr/>
          <p:nvPr/>
        </p:nvSpPr>
        <p:spPr>
          <a:xfrm>
            <a:off x="250920" y="314172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ejemplos de mesetas son la Meseta Central y la Gran Llanura Europea en Europa, o las Grandes Llanuras de Norteamé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14 Rectángulo"/>
          <p:cNvSpPr/>
          <p:nvPr/>
        </p:nvSpPr>
        <p:spPr>
          <a:xfrm>
            <a:off x="250920" y="198900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se hallan elevadas se denomina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mese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9"/>
          <p:cNvSpPr/>
          <p:nvPr/>
        </p:nvSpPr>
        <p:spPr>
          <a:xfrm>
            <a:off x="5003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7310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5465" y="3794"/>
                </a:lnTo>
                <a:lnTo>
                  <a:pt x="5465" y="17806"/>
                </a:lnTo>
                <a:lnTo>
                  <a:pt x="3803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5440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e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1484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zonas más bajas que los relieves que se hayan a su alrede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de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1 Rectángulo"/>
          <p:cNvSpPr/>
          <p:nvPr/>
        </p:nvSpPr>
        <p:spPr>
          <a:xfrm>
            <a:off x="324000" y="2133720"/>
            <a:ext cx="223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os ejemplos de depresiones s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presión del Guadalquivir y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presión del Ebro en España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l Turán entre Europa y Asia, 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l Mar Muer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Asia Me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13 Imagen" descr="depresion_bd.jpg"/>
          <p:cNvPicPr/>
          <p:nvPr/>
        </p:nvPicPr>
        <p:blipFill>
          <a:blip r:embed="rId2"/>
          <a:stretch/>
        </p:blipFill>
        <p:spPr>
          <a:xfrm>
            <a:off x="2556000" y="1909800"/>
            <a:ext cx="6483240" cy="42559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9"/>
          <p:cNvSpPr/>
          <p:nvPr/>
        </p:nvSpPr>
        <p:spPr>
          <a:xfrm>
            <a:off x="5003640" y="6308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5440320" y="63770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7T17:15:35Z</dcterms:modified>
  <cp:revision>52</cp:revision>
  <dc:subject/>
  <dc:title>Diapositiva 1</dc:title>
</cp:coreProperties>
</file>